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6EEE-805C-43ED-999F-2E343F19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71629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520" y="3503880"/>
            <a:ext cx="71629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7462-2F09-4763-8B63-95FD3504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52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5108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E895-7F0C-49B9-B316-C5367A43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802240" y="17524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24320" y="17524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520" y="35038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802240" y="35038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224320" y="35038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73B4-500C-4B4A-A8DA-5DE5B4E0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752480"/>
            <a:ext cx="716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71629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77240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520" y="1752480"/>
            <a:ext cx="716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D7B0-1B3A-4DB3-B0DC-6E3D78E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5108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503880"/>
            <a:ext cx="71629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71629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0520" y="3503880"/>
            <a:ext cx="71629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05108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802240" y="17524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24320" y="17524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0520" y="35038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802240" y="35038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224320" y="35038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71629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756A-DA8F-4380-A868-82CC84F1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C307-66CD-4AEA-B0A8-A364A242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4B0E-7638-4ED7-8D9D-44AEE2E0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77240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DDCB6-739E-4AD1-BDE6-F3C985F1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A80F-4D02-40BC-AAAB-B9BDBEF6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5108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296F-C07C-4C68-ABCA-92DAB881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503880"/>
            <a:ext cx="71629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9278-239B-494C-B16C-DBECF057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5B20-7932-4CB9-AF3E-06CE1B6827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562880" y="5826240"/>
          <a:ext cx="1581120" cy="103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2880" y="5826240"/>
                    <a:ext cx="15811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hiteoaks.on.ca/images/shirt_off_sm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www.bigpictureradio.com/sensuous-shirtless-beefcake.jpg&amp;imgrefurl=http://www.bigpictureradio.com/links.htm&amp;h=800&amp;w=540&amp;prev=/images%3Fq%3Dshirtless%26start%3D20%26svnum%3D10%26hl%3Den%26lr%3D%26ie%3DUTF-8%26oe%3DUTF-8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52280" y="3045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“</a:t>
            </a: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Saddle Up”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 Black"/>
              </a:rPr>
              <a:t>Find out how to Win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 Black"/>
              </a:rPr>
              <a:t>at the Track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00800" y="228600"/>
          <a:ext cx="274320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28600"/>
                    <a:ext cx="274320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191120" y="3276720"/>
            <a:ext cx="2133360" cy="17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2120" y="3352680"/>
          <a:ext cx="2489040" cy="319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352680"/>
                    <a:ext cx="248904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3b. Review odds and Place Be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320" y="159984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ased on the given odds and the regression simulations from Crystal Ball, we built a Solver Model to determine the best betting strategy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ximize expected amount w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raints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• Total betting amount = 1,000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• Bet must be split: ½ win, ½ place 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• Maximum win bet = 50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• Maximum show bet = 250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3c. Review odds and Place Be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320" y="15998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14815" r="2019" b="19196"/>
          <a:stretch/>
        </p:blipFill>
        <p:spPr>
          <a:xfrm>
            <a:off x="685800" y="990720"/>
            <a:ext cx="7391520" cy="3733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3343320"/>
            <a:ext cx="4333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4. Run Race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371600"/>
            <a:ext cx="7620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Simulate a race using Exte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Run race using Extend using Lognormal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2514600"/>
          <a:ext cx="548640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4600"/>
                    <a:ext cx="548640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095880" y="2590920"/>
          <a:ext cx="2819520" cy="27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2590920"/>
                    <a:ext cx="28195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9480" y="5867280"/>
            <a:ext cx="60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n Your Marks, Get Set, G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5. Collect Money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So how did you do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et’s compare the results from bets by class participants to that of the syste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28800" y="2743200"/>
          <a:ext cx="60958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743200"/>
                    <a:ext cx="60958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280" y="4800600"/>
          <a:ext cx="2462400" cy="11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800600"/>
                    <a:ext cx="24624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28240" y="205740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“</a:t>
            </a: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Get Your Backside Trackside”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304920"/>
          <a:ext cx="2743200" cy="13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274320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505320" y="4267080"/>
            <a:ext cx="21333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iddy Up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040" y="18288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: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termine the optimal betting strategy on a race based on a predicted outcome to a simulated race.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trategy: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termine the likely outcome based on past performance and horse attribut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4648320"/>
            <a:ext cx="1828800" cy="6858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Our Approach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040" y="18288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tain Performance History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uild Predictive Mode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eview Odds and Place Bet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un Rac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llect Money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648320"/>
            <a:ext cx="1752840" cy="6858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4648320"/>
            <a:ext cx="1905120" cy="6858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648320"/>
            <a:ext cx="1981080" cy="6858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52360" y="47242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r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47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eg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648320"/>
            <a:ext cx="1905120" cy="6858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rystal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4738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xt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1. Obtain Performance History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Collect historical information on the factors impacting performance on race da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Collect data from past 5 horse race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1)  Racing time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2)  Swimming record (performance on wet tracks)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3)  Jockey Weight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4)  Jockey Skill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2. Build Predictive Model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Determine factors impacting performanc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un multiple regression 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Dependent Variable (Y):  Time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Independent Variables (X):  Track Condition, Jockey Weight, Jockey Rank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gression Output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xpected Time = </a:t>
            </a:r>
            <a:r>
              <a:rPr b="1" lang="el-GR" sz="2200" spc="-1" strike="noStrike">
                <a:solidFill>
                  <a:srgbClr val="ffcc00"/>
                </a:solidFill>
                <a:latin typeface="Arial"/>
                <a:ea typeface="Arial"/>
              </a:rPr>
              <a:t>α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  <a:ea typeface="Arial"/>
              </a:rPr>
              <a:t> + </a:t>
            </a:r>
            <a:r>
              <a:rPr b="1" lang="el-GR" sz="2200" spc="-1" strike="noStrike">
                <a:solidFill>
                  <a:srgbClr val="ffcc00"/>
                </a:solidFill>
                <a:latin typeface="Arial"/>
                <a:ea typeface="Arial"/>
              </a:rPr>
              <a:t>β</a:t>
            </a:r>
            <a:r>
              <a:rPr b="1" lang="en-US" sz="2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1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  <a:ea typeface="Arial"/>
              </a:rPr>
              <a:t> Track Condition + </a:t>
            </a:r>
            <a:r>
              <a:rPr b="1" lang="el-GR" sz="2200" spc="-1" strike="noStrike">
                <a:solidFill>
                  <a:srgbClr val="ffcc00"/>
                </a:solidFill>
                <a:latin typeface="Arial"/>
                <a:ea typeface="Arial"/>
              </a:rPr>
              <a:t>β</a:t>
            </a:r>
            <a:r>
              <a:rPr b="1" lang="en-US" sz="2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  <a:ea typeface="Arial"/>
              </a:rPr>
              <a:t> Jockey Weight + </a:t>
            </a:r>
            <a:r>
              <a:rPr b="1" lang="el-GR" sz="2200" spc="-1" strike="noStrike">
                <a:solidFill>
                  <a:srgbClr val="ffcc00"/>
                </a:solidFill>
                <a:latin typeface="Arial"/>
                <a:ea typeface="Arial"/>
              </a:rPr>
              <a:t>β</a:t>
            </a:r>
            <a:r>
              <a:rPr b="1" lang="en-US" sz="2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3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  <a:ea typeface="Arial"/>
              </a:rPr>
              <a:t>Jockey Rank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2a. Build Predictive Mod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Gather Race Day Detail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Track Condi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Jockey Weigh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Jockey Rank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Use regression output to determine expected time on race da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Run simulation in Crystal Ball to determine the probability that each horse will finish in each possible pla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2b. Build Predictive Mod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3. Review odds and Place Be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Use Solver to optimize betting based on predicted race outcome, odds, and betting constraints. Go home with your shirt on!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Expected finish time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Odds and bet payoff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Betting constraint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276720"/>
            <a:ext cx="1647720" cy="1666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3657600"/>
            <a:ext cx="1498320" cy="2209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52880" y="5638680"/>
            <a:ext cx="2590920" cy="990720"/>
          </a:xfrm>
          <a:prstGeom prst="wedgeEllipseCallout">
            <a:avLst>
              <a:gd name="adj1" fmla="val -26962"/>
              <a:gd name="adj2" fmla="val -19358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ow to keep your Shirt 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5 0.017 0.02131 0.021 0.03463 C 0.025 0.04928 0.027 0.06659 0.029 0.0839 C 0.031 0.10122 0.029 0.11587 0.027 0.13185 C 0.025 0.1465 0.022 0.16248 0.015 0.1758 C 0.009 0.18911 -0.001 0.19977 -0.012 0.20776 C -0.022 0.21575 -0.034 0.22108 -0.046 0.22374 C -0.058 0.2264 -0.07 0.2264 -0.081 0.22374 C -0.093 0.22108 -0.104 0.21442 -0.113 0.20376 C -0.122 0.19444 -0.13 0.18246 -0.134 0.16781 C -0.139 0.15449 -0.141 0.13584 -0.141 0.12119 C -0.142 0.10654 -0.141 0.08923 -0.136 0.07458 C -0.131 0.06126 -0.122 0.05061 -0.11 0.04528 C -0.098 0.04129 -0.086 0.04661 -0.078 0.05594 C -0.071 0.06526 -0.066 0.07991 -0.065 0.09722 C -0.065 0.11453 -0.066 0.13052 -0.071 0.14383 C -0.076 0.15715 -0.075 0.15982 -0.095 0.17713 C -0.113 0.19577 -0.131 0.19045 -0.142 0.19178 C -0.153 0.19178 -0.162 0.18645 -0.173 0.18112 C -0.185 0.17446 -0.195 0.16248 -0.202 0.15182 C -0.209 0.14117 -0.212 0.12785 -0.216 0.10654 C -0.219 0.08523 -0.219 0.07458 -0.219 0.0586 C -0.219 0.04262 -0.219 0.02664 -0.219 0.01065 E">
                                      <p:cBhvr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27168E-006 C -0.15 0.05919 -0.29983 0.11862 -0.34445 0.18798 C -0.38907 0.25734 -0.35816 0.38613 -0.26823 0.41642 C -0.1783 0.44671 0.09704 0.41549 0.19513 0.36995 C 0.29322 0.3244 0.31215 0.22844 0.32066 0.14359 C 0.32916 0.05873 0.25503 -0.09549 0.246 -0.13965 E">
                                      <p:cBhvr>
                                        <p:cTn id="1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3a. Review odds and Place Be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632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odds of each horse for the race are as follows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6172" t="32239" r="2189" b="13038"/>
          <a:stretch/>
        </p:blipFill>
        <p:spPr>
          <a:xfrm>
            <a:off x="647640" y="2133720"/>
            <a:ext cx="7315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8:14:58Z</dcterms:created>
  <dc:creator>Stern School</dc:creator>
  <dc:description/>
  <dc:language>en-US</dc:language>
  <cp:lastModifiedBy>Stern School</cp:lastModifiedBy>
  <dcterms:modified xsi:type="dcterms:W3CDTF">2002-12-03T21:33:19Z</dcterms:modified>
  <cp:revision>28</cp:revision>
  <dc:subject/>
  <dc:title>Slide 1</dc:title>
</cp:coreProperties>
</file>